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D856-D27F-4CF3-ADCA-2085103E0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FEB5-9A7C-4D16-AB78-55B2D658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956F-A54F-43AB-8557-D09FE912D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9D69-3131-495E-A870-1AE7FE1E7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03FD-E07F-485B-9B89-7C334D341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7F67-810D-4091-9B15-E479640D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F261-CC26-48CC-BC6C-1130FD9F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82F1-074D-4717-916B-550A47AD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3FA5-F6CA-4904-B229-FE5440A9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7002-834A-4D47-AC06-636EF792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FA45-086B-4BA9-8703-C28CCAC0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21E4-AF80-4908-A7DF-3FFE34B7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64E2-8105-4977-B9E0-CDA84116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9300-418A-497E-A02E-352840CF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A22C-58EA-4424-AFA0-333CD995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2F63-A235-4D70-A358-D2175EF46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A1FA-8165-439D-8493-F5FD320E6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A8413-2AD2-4093-88DA-B53C2CBF2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51127-086F-4775-BE30-DC69C18A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46A0D-578B-409C-A95F-BDACCAFD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7AFBB-9459-4BFA-8614-5A5104C7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30F76-6DBA-4631-B2A2-8F1C15D0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6F4E-D046-4187-8B97-C89111C2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14FC9-0AAD-46B6-B33B-938A7E0F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6E274-0AE6-4DA1-A0F8-8B80E79D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F802D-A387-447C-8816-C7F5FAAF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5F043-22E5-4605-825A-D6A07626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409A3-08EE-407C-B60C-2BAA9A58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05975-FF0C-4FF7-8896-A5BB6A198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CE189-2D23-437E-A423-D72B88CD3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CFBB5-B212-4872-8D4D-F038215F8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67C42-F082-4C78-95D9-80571A2D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BC071-DAD6-466C-B299-72EBC6A4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CF94-D3B5-4B76-BB00-E54A9CBE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8930F-89C2-4D94-BE05-112318F8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F843D-34C1-4A04-8651-13A59A09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07AC0-C69F-4530-B3AC-EC688910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E80CE-493C-4FB3-852C-097D1880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DC0CB-832E-41D8-A24C-9D3BDC26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BB610-4D68-43D4-8473-7680D5FE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CB1B4-8ACA-4D6E-AD05-D74F9CF1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52867-E1CC-47A2-8A92-AE4092ECA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5844D-137A-47AB-874E-66A0DCF19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D5E89-79B2-46A5-B8FE-8DA117BD4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10F1-5B2B-4D46-B792-DD08B18F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D6E19-534E-4ECC-A924-96B31836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CE4B7-F9DE-43C9-AACE-B7B154A8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F17A6-08B4-4648-9413-F36D1097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24625-B029-46C2-9D71-90B171A9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5D94B-B288-47B6-97DF-7C94E636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308C8-CCE6-40F4-8622-84D1E606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CE91F-14FC-4382-8DC3-5322DDD3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4903F-2931-4AD1-951A-7BB7DAE4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703EB-8E88-4494-8B92-9877A220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008D7-F89A-4EB8-ADEF-61B159804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7294-B1E7-49A1-BCA5-26D5B316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68861-2F60-4114-B263-BC28DB65D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D5427-17D0-4349-8B5D-9AA849F0A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35F81-110B-49BF-A637-929CDE3A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3D8C4-2012-4EC4-A695-42F8E6E0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AB5DB-015B-43A9-AB01-455F698A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8C56A-AE5E-4F3E-8EBD-4A994F85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4E7BF-AC64-459C-93E5-2B980B70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BA3F9-4DA5-4374-B7F0-544A6DC0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C6E9C-AF12-4FFE-8299-0395C2BB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EC9FC-6278-40DD-A65B-882C7E12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B63A-D793-48D2-8800-8240FBDC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D8085-42B5-4461-B9BD-67486645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DF181-F86B-4B0C-9EBE-4CF3B02BC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CC259-1FFB-4D98-AC04-B122176C0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06284-B401-426A-92AB-08DB95CD8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8E89E-C10C-45D9-A1A2-E17FE164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6A5CC-5FBE-4672-B2AB-566BE5304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B478F-1371-4D47-AFB0-71733205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14274-4C11-45F9-902A-628BEE446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4091C-CDC3-47D0-942F-2329700B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6E711-4DFE-4079-89F4-AAE53E32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1BAB-16FF-4BFE-B028-5939D1AB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C612B-2AED-4C9A-B681-0D82EACA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BF1C1-E73A-46D1-B49B-6B946D8F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12663-B2F2-4632-B475-F930BB31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54D37-9ACE-4F55-AC76-125DB8F14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4A383-446D-4124-AF1E-BA3EF7623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E182-656B-479D-8B87-EA250113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4fcff">
              <a:alpha val="33000"/>
            </a:srgbClr>
          </a:solidFill>
          <a:ln cap="rnd" w="3240">
            <a:solidFill>
              <a:srgbClr val="a5cb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af7ff"/>
            </a:solidFill>
            <a:miter/>
          </a:ln>
          <a:effectLst>
            <a:outerShdw dist="12600" dir="5400000" blurRad="0" rotWithShape="0">
              <a:srgbClr val="95ae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daecb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FD3C-ADEF-48EF-B809-499A9466073C}" type="slidenum">
              <a:rPr b="0" lang="en-US" sz="1200" spc="-1" strike="noStrike">
                <a:solidFill>
                  <a:srgbClr val="8daecb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4fcff">
              <a:alpha val="33000"/>
            </a:srgbClr>
          </a:solidFill>
          <a:ln cap="rnd" w="3240">
            <a:solidFill>
              <a:srgbClr val="a5cb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af7ff"/>
            </a:solidFill>
            <a:miter/>
          </a:ln>
          <a:effectLst>
            <a:outerShdw dist="12600" dir="5400000" blurRad="0" rotWithShape="0">
              <a:srgbClr val="95ae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6fb83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daecb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988A-11CB-4573-B21A-B8274A765808}" type="slidenum">
              <a:rPr b="0" lang="en-US" sz="1200" spc="-1" strike="noStrike">
                <a:solidFill>
                  <a:srgbClr val="8daecb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6fb83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daecb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C3DF-EB63-4716-A3FA-2665D500AC43}" type="slidenum">
              <a:rPr b="0" lang="en-US" sz="1200" spc="-1" strike="noStrike">
                <a:solidFill>
                  <a:srgbClr val="8daecb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daecb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BF9B-72EC-42D4-80B8-F7A58D2C2361}" type="slidenum">
              <a:rPr b="0" lang="en-US" sz="1200" spc="-1" strike="noStrike">
                <a:solidFill>
                  <a:srgbClr val="8daecb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daecb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4FF0-ADD9-4BE2-A810-3A53FF2E6847}" type="slidenum">
              <a:rPr b="0" lang="en-US" sz="1200" spc="-1" strike="noStrike">
                <a:solidFill>
                  <a:srgbClr val="8daecb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daecb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B0A3-0A68-476E-88E8-EDAA8DE54838}" type="slidenum">
              <a:rPr b="0" lang="en-US" sz="1200" spc="-1" strike="noStrike">
                <a:solidFill>
                  <a:srgbClr val="8daecb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9e3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6ecff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daecb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5AEE-73CA-4133-BAE3-904DE2D26212}" type="slidenum">
              <a:rPr b="0" lang="en-US" sz="1200" spc="-1" strike="noStrike">
                <a:solidFill>
                  <a:srgbClr val="8daecb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Logo Design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53143"/>
                </a:solidFill>
                <a:latin typeface="Gill Sans MT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2760840" y="1752480"/>
            <a:ext cx="4841640" cy="44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2362320" y="1920960"/>
            <a:ext cx="563868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1"/>
          <a:srcRect l="0" t="0" r="0" b="32011"/>
          <a:stretch/>
        </p:blipFill>
        <p:spPr>
          <a:xfrm>
            <a:off x="3276720" y="2346480"/>
            <a:ext cx="380988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43" name="Picture 3" descr=""/>
          <p:cNvPicPr/>
          <p:nvPr/>
        </p:nvPicPr>
        <p:blipFill>
          <a:blip r:embed="rId1"/>
          <a:stretch/>
        </p:blipFill>
        <p:spPr>
          <a:xfrm>
            <a:off x="3441600" y="2057400"/>
            <a:ext cx="347976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2158920" y="1905120"/>
            <a:ext cx="604512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2387520" y="2743200"/>
            <a:ext cx="558792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1"/>
          <a:srcRect l="0" t="0" r="74091" b="0"/>
          <a:stretch/>
        </p:blipFill>
        <p:spPr>
          <a:xfrm>
            <a:off x="2895480" y="1739880"/>
            <a:ext cx="4102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1968480" y="1563840"/>
            <a:ext cx="595620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3508200" y="1773360"/>
            <a:ext cx="287676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John Deere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rcRect l="23199" t="0" r="23350" b="27997"/>
          <a:stretch/>
        </p:blipFill>
        <p:spPr>
          <a:xfrm>
            <a:off x="2724120" y="1690560"/>
            <a:ext cx="4915080" cy="45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rcRect l="23199" t="0" r="23350" b="27997"/>
          <a:stretch/>
        </p:blipFill>
        <p:spPr>
          <a:xfrm>
            <a:off x="2724120" y="1690560"/>
            <a:ext cx="4915080" cy="45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Mercedes Benz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2928960" y="1752480"/>
            <a:ext cx="4505400" cy="44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PBS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1"/>
          <a:srcRect l="0" t="0" r="0" b="5695"/>
          <a:stretch/>
        </p:blipFill>
        <p:spPr>
          <a:xfrm>
            <a:off x="2971800" y="1671480"/>
            <a:ext cx="4419720" cy="44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Apple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61" name="Picture 3" descr=""/>
          <p:cNvPicPr/>
          <p:nvPr/>
        </p:nvPicPr>
        <p:blipFill>
          <a:blip r:embed="rId1"/>
          <a:stretch/>
        </p:blipFill>
        <p:spPr>
          <a:xfrm>
            <a:off x="2631960" y="2057400"/>
            <a:ext cx="509904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Targe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2895480" y="1728720"/>
            <a:ext cx="457200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McDonald’s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2917800" y="1752480"/>
            <a:ext cx="4527720" cy="44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Adidas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rcRect l="0" t="9897" r="0" b="33341"/>
          <a:stretch/>
        </p:blipFill>
        <p:spPr>
          <a:xfrm>
            <a:off x="1779480" y="1828800"/>
            <a:ext cx="680400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arhar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rcRect l="0" t="0" r="0" b="19594"/>
          <a:stretch/>
        </p:blipFill>
        <p:spPr>
          <a:xfrm>
            <a:off x="1600200" y="1611360"/>
            <a:ext cx="543384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AT&amp;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2760840" y="1752480"/>
            <a:ext cx="4841640" cy="44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Batman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2362320" y="1920960"/>
            <a:ext cx="563868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Atari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rcRect l="0" t="0" r="0" b="32011"/>
          <a:stretch/>
        </p:blipFill>
        <p:spPr>
          <a:xfrm>
            <a:off x="3276720" y="2346480"/>
            <a:ext cx="380988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2928960" y="1752480"/>
            <a:ext cx="4505400" cy="44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Netscape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77" name="Picture 3" descr=""/>
          <p:cNvPicPr/>
          <p:nvPr/>
        </p:nvPicPr>
        <p:blipFill>
          <a:blip r:embed="rId1"/>
          <a:stretch/>
        </p:blipFill>
        <p:spPr>
          <a:xfrm>
            <a:off x="3441600" y="2057400"/>
            <a:ext cx="347976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Penn State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2158920" y="1905120"/>
            <a:ext cx="604512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Nike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2387520" y="2743200"/>
            <a:ext cx="558792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Obama Campaign ‘08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rcRect l="0" t="0" r="74091" b="0"/>
          <a:stretch/>
        </p:blipFill>
        <p:spPr>
          <a:xfrm>
            <a:off x="2895480" y="1739880"/>
            <a:ext cx="4102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Michael Jackson Productions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1968480" y="1563840"/>
            <a:ext cx="595620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Dr. Seuss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87" name="Picture 2" descr=""/>
          <p:cNvPicPr/>
          <p:nvPr/>
        </p:nvPicPr>
        <p:blipFill>
          <a:blip r:embed="rId1"/>
          <a:stretch/>
        </p:blipFill>
        <p:spPr>
          <a:xfrm>
            <a:off x="3508200" y="1773360"/>
            <a:ext cx="287676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Evolution of the Pepsi Logo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371240" y="144756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90" name="ShockwaveFlash1"/>
          <p:cNvGraphicFramePr/>
          <p:nvPr/>
        </p:nvGraphicFramePr>
        <p:xfrm>
          <a:off x="1371600" y="1447920"/>
          <a:ext cx="746748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447920"/>
                    <a:ext cx="7467480" cy="5029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Why redesign a logo?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ew leadership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nancial reas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ospective analysis of the marke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erg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at do you get when FedEx and UPS merg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edUP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How to create a logo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i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hap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gure groun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atter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etterfor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tra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mage fiel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ercep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Line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way in which a line is drawn can evoke different moods or meaning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ight angles produce a very sharp and potentially dangerous situation, whereas a soft, sensuous line implies a gentle, nonaggressive attitud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00" name="Picture 5" descr=""/>
          <p:cNvPicPr/>
          <p:nvPr/>
        </p:nvPicPr>
        <p:blipFill>
          <a:blip r:embed="rId1"/>
          <a:srcRect l="8062" t="23205" r="9826" b="10166"/>
          <a:stretch/>
        </p:blipFill>
        <p:spPr>
          <a:xfrm>
            <a:off x="1295280" y="5105520"/>
            <a:ext cx="3886200" cy="17524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6" descr=""/>
          <p:cNvPicPr/>
          <p:nvPr/>
        </p:nvPicPr>
        <p:blipFill>
          <a:blip r:embed="rId2"/>
          <a:stretch/>
        </p:blipFill>
        <p:spPr>
          <a:xfrm>
            <a:off x="1828800" y="3657600"/>
            <a:ext cx="267480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25" name="Picture 2" descr=""/>
          <p:cNvPicPr/>
          <p:nvPr/>
        </p:nvPicPr>
        <p:blipFill>
          <a:blip r:embed="rId1"/>
          <a:srcRect l="0" t="0" r="0" b="5695"/>
          <a:stretch/>
        </p:blipFill>
        <p:spPr>
          <a:xfrm>
            <a:off x="2971800" y="1671480"/>
            <a:ext cx="4419720" cy="44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Shape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square is the most visually stable. Next are the circle and the triangle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ctangles, both horizontal and vertical, and ellipses are the most visually unstabl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05" name="Picture 5" descr=""/>
          <p:cNvPicPr/>
          <p:nvPr/>
        </p:nvPicPr>
        <p:blipFill>
          <a:blip r:embed="rId1"/>
          <a:stretch/>
        </p:blipFill>
        <p:spPr>
          <a:xfrm>
            <a:off x="1523880" y="4005360"/>
            <a:ext cx="3733920" cy="20732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6" descr=""/>
          <p:cNvPicPr/>
          <p:nvPr/>
        </p:nvPicPr>
        <p:blipFill>
          <a:blip r:embed="rId2"/>
          <a:stretch/>
        </p:blipFill>
        <p:spPr>
          <a:xfrm>
            <a:off x="5257800" y="4191120"/>
            <a:ext cx="363528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Figure Ground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positive and negative shapes interact to provide a mental puzzl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09" name="Picture 6" descr=""/>
          <p:cNvPicPr/>
          <p:nvPr/>
        </p:nvPicPr>
        <p:blipFill>
          <a:blip r:embed="rId1"/>
          <a:stretch/>
        </p:blipFill>
        <p:spPr>
          <a:xfrm>
            <a:off x="5791320" y="1143000"/>
            <a:ext cx="262872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Pattern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creating a pattern using geometric shapes, it is tempting to create a pattern using elements of the trademark. This leads to a less unique log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5486400" y="1219320"/>
            <a:ext cx="3271680" cy="18176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" descr=""/>
          <p:cNvPicPr/>
          <p:nvPr/>
        </p:nvPicPr>
        <p:blipFill>
          <a:blip r:embed="rId2"/>
          <a:stretch/>
        </p:blipFill>
        <p:spPr>
          <a:xfrm>
            <a:off x="5203800" y="3124080"/>
            <a:ext cx="3703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Letterform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sing common letterforms to create unique configurations can create simple, but effective log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6" name="Picture 5" descr=""/>
          <p:cNvPicPr/>
          <p:nvPr/>
        </p:nvPicPr>
        <p:blipFill>
          <a:blip r:embed="rId1"/>
          <a:stretch/>
        </p:blipFill>
        <p:spPr>
          <a:xfrm>
            <a:off x="5638680" y="990720"/>
            <a:ext cx="2811600" cy="15620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6" descr=""/>
          <p:cNvPicPr/>
          <p:nvPr/>
        </p:nvPicPr>
        <p:blipFill>
          <a:blip r:embed="rId2"/>
          <a:srcRect l="22050" t="36555" r="18559" b="38799"/>
          <a:stretch/>
        </p:blipFill>
        <p:spPr>
          <a:xfrm>
            <a:off x="5943600" y="2819520"/>
            <a:ext cx="2590920" cy="8380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7" descr=""/>
          <p:cNvPicPr/>
          <p:nvPr/>
        </p:nvPicPr>
        <p:blipFill>
          <a:blip r:embed="rId3"/>
          <a:srcRect l="0" t="37906" r="0" b="27362"/>
          <a:stretch/>
        </p:blipFill>
        <p:spPr>
          <a:xfrm>
            <a:off x="2209680" y="5181480"/>
            <a:ext cx="5923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ontras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ariations of the letterform weight and size also help create a subtle meaning in the wordmark that could not be obtained otherwis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21" name="Picture 5" descr=""/>
          <p:cNvPicPr/>
          <p:nvPr/>
        </p:nvPicPr>
        <p:blipFill>
          <a:blip r:embed="rId1"/>
          <a:stretch/>
        </p:blipFill>
        <p:spPr>
          <a:xfrm>
            <a:off x="5105520" y="609480"/>
            <a:ext cx="3733560" cy="20750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6" descr=""/>
          <p:cNvPicPr/>
          <p:nvPr/>
        </p:nvPicPr>
        <p:blipFill>
          <a:blip r:embed="rId2"/>
          <a:stretch/>
        </p:blipFill>
        <p:spPr>
          <a:xfrm>
            <a:off x="5486400" y="2819520"/>
            <a:ext cx="297180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Image Field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area around the object can define it as well as a literal drawing of it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25" name="Picture 5" descr=""/>
          <p:cNvPicPr/>
          <p:nvPr/>
        </p:nvPicPr>
        <p:blipFill>
          <a:blip r:embed="rId1"/>
          <a:stretch/>
        </p:blipFill>
        <p:spPr>
          <a:xfrm>
            <a:off x="5486400" y="990720"/>
            <a:ext cx="3292560" cy="18288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6" descr=""/>
          <p:cNvPicPr/>
          <p:nvPr/>
        </p:nvPicPr>
        <p:blipFill>
          <a:blip r:embed="rId2"/>
          <a:stretch/>
        </p:blipFill>
        <p:spPr>
          <a:xfrm>
            <a:off x="4876920" y="3657600"/>
            <a:ext cx="4114800" cy="22860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7" descr=""/>
          <p:cNvPicPr/>
          <p:nvPr/>
        </p:nvPicPr>
        <p:blipFill>
          <a:blip r:embed="rId3"/>
          <a:stretch/>
        </p:blipFill>
        <p:spPr>
          <a:xfrm>
            <a:off x="1828800" y="4191120"/>
            <a:ext cx="322272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Perception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mple linear and geometric forms can convey completely different meanings with the slightest modification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0" name="Picture 5" descr=""/>
          <p:cNvPicPr/>
          <p:nvPr/>
        </p:nvPicPr>
        <p:blipFill>
          <a:blip r:embed="rId1"/>
          <a:stretch/>
        </p:blipFill>
        <p:spPr>
          <a:xfrm>
            <a:off x="5334120" y="685800"/>
            <a:ext cx="3429000" cy="190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6" descr=""/>
          <p:cNvPicPr/>
          <p:nvPr/>
        </p:nvPicPr>
        <p:blipFill>
          <a:blip r:embed="rId2"/>
          <a:stretch/>
        </p:blipFill>
        <p:spPr>
          <a:xfrm>
            <a:off x="5410080" y="2455920"/>
            <a:ext cx="3353040" cy="18619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7" descr=""/>
          <p:cNvPicPr/>
          <p:nvPr/>
        </p:nvPicPr>
        <p:blipFill>
          <a:blip r:embed="rId3"/>
          <a:stretch/>
        </p:blipFill>
        <p:spPr>
          <a:xfrm>
            <a:off x="5867280" y="4191120"/>
            <a:ext cx="2934000" cy="16300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8" descr=""/>
          <p:cNvPicPr/>
          <p:nvPr/>
        </p:nvPicPr>
        <p:blipFill>
          <a:blip r:embed="rId4"/>
          <a:srcRect l="0" t="29833" r="0" b="38799"/>
          <a:stretch/>
        </p:blipFill>
        <p:spPr>
          <a:xfrm>
            <a:off x="1600200" y="5029200"/>
            <a:ext cx="4362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riteria for Developmen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ill it stand out in its surroundings to provide quick and memorable identificatio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pplic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w well can the symbol be used in a variety of application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6" name="Picture 4" descr=""/>
          <p:cNvPicPr/>
          <p:nvPr/>
        </p:nvPicPr>
        <p:blipFill>
          <a:blip r:embed="rId1"/>
          <a:stretch/>
        </p:blipFill>
        <p:spPr>
          <a:xfrm>
            <a:off x="7010280" y="2514600"/>
            <a:ext cx="178920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riteria for Developmen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istinctivenes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ill the application distinguish itself from its competition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mplicity/Universali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s the symbol’s concept easy to identify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ten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f a symbol is too easy to read, the viewer will feel no sense of discovery and thus no personal equity with the mark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9" name="Picture 4" descr=""/>
          <p:cNvPicPr/>
          <p:nvPr/>
        </p:nvPicPr>
        <p:blipFill>
          <a:blip r:embed="rId1"/>
          <a:srcRect l="0" t="25815" r="0" b="22585"/>
          <a:stretch/>
        </p:blipFill>
        <p:spPr>
          <a:xfrm>
            <a:off x="6172200" y="2895480"/>
            <a:ext cx="11811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riteria for Developmen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lo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good symbol must work in a number of technologi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escriptivenes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oes the symbol reveal to some extent the nature of the company or product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imelessnes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2" name="Picture 6" descr=""/>
          <p:cNvPicPr/>
          <p:nvPr/>
        </p:nvPicPr>
        <p:blipFill>
          <a:blip r:embed="rId1"/>
          <a:srcRect l="16271" t="29289" r="15998" b="26833"/>
          <a:stretch/>
        </p:blipFill>
        <p:spPr>
          <a:xfrm>
            <a:off x="5232240" y="2876400"/>
            <a:ext cx="322596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27" name="Picture 3" descr=""/>
          <p:cNvPicPr/>
          <p:nvPr/>
        </p:nvPicPr>
        <p:blipFill>
          <a:blip r:embed="rId1"/>
          <a:stretch/>
        </p:blipFill>
        <p:spPr>
          <a:xfrm>
            <a:off x="2631960" y="2057400"/>
            <a:ext cx="509904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riteria for Developmen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ill the potential mark be adaptable to numerous application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qui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age, use, and recognition of a mark is also a primary consideration in its development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5" name="Picture 7" descr=""/>
          <p:cNvPicPr/>
          <p:nvPr/>
        </p:nvPicPr>
        <p:blipFill>
          <a:blip r:embed="rId1"/>
          <a:stretch/>
        </p:blipFill>
        <p:spPr>
          <a:xfrm>
            <a:off x="4800600" y="5486400"/>
            <a:ext cx="2666880" cy="10126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4" descr=""/>
          <p:cNvPicPr/>
          <p:nvPr/>
        </p:nvPicPr>
        <p:blipFill>
          <a:blip r:embed="rId2"/>
          <a:srcRect l="21688" t="13001" r="20491" b="17611"/>
          <a:stretch/>
        </p:blipFill>
        <p:spPr>
          <a:xfrm>
            <a:off x="6058080" y="2666880"/>
            <a:ext cx="21715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Three Categories of logos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escriptive Mark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ses visual imagery relating to the clients product or servic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ymbolic Mark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akes the descriptive mark one step further, literally incorporating a figurative element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ypographic Mark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etterforms as a starting point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9" name="Picture 4" descr=""/>
          <p:cNvPicPr/>
          <p:nvPr/>
        </p:nvPicPr>
        <p:blipFill>
          <a:blip r:embed="rId1"/>
          <a:srcRect l="0" t="23998" r="0" b="20011"/>
          <a:stretch/>
        </p:blipFill>
        <p:spPr>
          <a:xfrm>
            <a:off x="5562720" y="2590920"/>
            <a:ext cx="1904760" cy="10666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5" descr=""/>
          <p:cNvPicPr/>
          <p:nvPr/>
        </p:nvPicPr>
        <p:blipFill>
          <a:blip r:embed="rId2"/>
          <a:stretch/>
        </p:blipFill>
        <p:spPr>
          <a:xfrm>
            <a:off x="5181480" y="1143000"/>
            <a:ext cx="990720" cy="993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6" descr=""/>
          <p:cNvPicPr/>
          <p:nvPr/>
        </p:nvPicPr>
        <p:blipFill>
          <a:blip r:embed="rId3"/>
          <a:stretch/>
        </p:blipFill>
        <p:spPr>
          <a:xfrm>
            <a:off x="5638680" y="4800600"/>
            <a:ext cx="140976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ase Study / Process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same Workshop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riginal Log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ew Log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nal Log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4" name="Picture 4" descr=""/>
          <p:cNvPicPr/>
          <p:nvPr/>
        </p:nvPicPr>
        <p:blipFill>
          <a:blip r:embed="rId1"/>
          <a:stretch/>
        </p:blipFill>
        <p:spPr>
          <a:xfrm>
            <a:off x="4038480" y="327672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5" descr=""/>
          <p:cNvPicPr/>
          <p:nvPr/>
        </p:nvPicPr>
        <p:blipFill>
          <a:blip r:embed="rId2"/>
          <a:stretch/>
        </p:blipFill>
        <p:spPr>
          <a:xfrm>
            <a:off x="4495680" y="2057400"/>
            <a:ext cx="2676600" cy="106668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6" descr=""/>
          <p:cNvPicPr/>
          <p:nvPr/>
        </p:nvPicPr>
        <p:blipFill>
          <a:blip r:embed="rId3"/>
          <a:srcRect l="0" t="12866" r="0" b="22988"/>
          <a:stretch/>
        </p:blipFill>
        <p:spPr>
          <a:xfrm>
            <a:off x="1752480" y="3733920"/>
            <a:ext cx="2009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Logotype Sketches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458" name="Picture 2" descr=""/>
          <p:cNvPicPr/>
          <p:nvPr/>
        </p:nvPicPr>
        <p:blipFill>
          <a:blip r:embed="rId1"/>
          <a:stretch/>
        </p:blipFill>
        <p:spPr>
          <a:xfrm>
            <a:off x="4092480" y="1219320"/>
            <a:ext cx="2184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A Creative Mark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460" name="Picture 2" descr=""/>
          <p:cNvPicPr/>
          <p:nvPr/>
        </p:nvPicPr>
        <p:blipFill>
          <a:blip r:embed="rId1"/>
          <a:stretch/>
        </p:blipFill>
        <p:spPr>
          <a:xfrm>
            <a:off x="2895480" y="3568680"/>
            <a:ext cx="3814920" cy="29844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3" descr=""/>
          <p:cNvPicPr/>
          <p:nvPr/>
        </p:nvPicPr>
        <p:blipFill>
          <a:blip r:embed="rId2"/>
          <a:stretch/>
        </p:blipFill>
        <p:spPr>
          <a:xfrm>
            <a:off x="2895480" y="1523880"/>
            <a:ext cx="381024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2895480" y="1728720"/>
            <a:ext cx="457200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31" name="Picture 2" descr=""/>
          <p:cNvPicPr/>
          <p:nvPr/>
        </p:nvPicPr>
        <p:blipFill>
          <a:blip r:embed="rId1"/>
          <a:stretch/>
        </p:blipFill>
        <p:spPr>
          <a:xfrm>
            <a:off x="2917800" y="1752480"/>
            <a:ext cx="4527720" cy="44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33" name="Picture 2" descr=""/>
          <p:cNvPicPr/>
          <p:nvPr/>
        </p:nvPicPr>
        <p:blipFill>
          <a:blip r:embed="rId1"/>
          <a:srcRect l="0" t="9897" r="0" b="33341"/>
          <a:stretch/>
        </p:blipFill>
        <p:spPr>
          <a:xfrm>
            <a:off x="1779480" y="1828800"/>
            <a:ext cx="680400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rcRect l="0" t="0" r="0" b="19594"/>
          <a:stretch/>
        </p:blipFill>
        <p:spPr>
          <a:xfrm>
            <a:off x="1600200" y="1611360"/>
            <a:ext cx="543384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3T22:43:59Z</dcterms:created>
  <dc:creator>Tina</dc:creator>
  <dc:description/>
  <dc:language>en-US</dc:language>
  <cp:lastModifiedBy>Tina</cp:lastModifiedBy>
  <dcterms:modified xsi:type="dcterms:W3CDTF">2009-09-17T02:02:22Z</dcterms:modified>
  <cp:revision>88</cp:revision>
  <dc:subject/>
  <dc:title>Logo Design</dc:title>
</cp:coreProperties>
</file>